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F26F-A6ED-4AE6-BA3A-A9B5E7B7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GO is in the fact that the main axes of classification are precise. GO does not have terms for protein structures, phenotypes or pathological states/disease, cell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Osaka"/>
              </a:rPr>
              <a:t>provides a controlled set of terms for describing a gene. Annotation is completely distinct from building the ont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groups had tried and failed before, what pitfalls could we avoid by learning from these les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ransition to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nice to have this in graph form (SU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queries in the GO for plasmatocyte differentiation will not return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d to lamellocyte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058-993C-4D0F-9679-EF6CF5F0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5C8-82DC-417E-A4F5-D1A2923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B09-41B7-4190-95F3-030ABE04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8A3-5B08-412A-BFB5-2170716D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4F1-FE34-4E72-9DAD-8D1DEE8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84B-FB6F-4047-BADE-BA60E5F1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AD7-B280-4E4D-8D93-E954EBF8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C0D-4FAC-42DC-9D7C-564A073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EF9B-9F97-4DAC-B217-035F48B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FDD-506B-46A3-845A-571B109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2DB-0D9E-421F-B811-8392A66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CA9-529F-41D7-A924-7E11749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BAB-8CE2-45E4-A4BC-4F66AF5ADDA3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godatabase.org/" TargetMode="External"/><Relationship Id="rId3" Type="http://schemas.openxmlformats.org/officeDocument/2006/relationships/hyperlink" Target="http://www.sourceforge.net/" TargetMode="External"/><Relationship Id="rId4" Type="http://schemas.openxmlformats.org/officeDocument/2006/relationships/hyperlink" Target="http://www.sourceforge.net/" TargetMode="External"/><Relationship Id="rId5" Type="http://schemas.openxmlformats.org/officeDocument/2006/relationships/hyperlink" Target="http://www.ucsc.edu/" TargetMode="External"/><Relationship Id="rId6" Type="http://schemas.openxmlformats.org/officeDocument/2006/relationships/hyperlink" Target="http://www.ncbi.nih.gov/" TargetMode="External"/><Relationship Id="rId7" Type="http://schemas.openxmlformats.org/officeDocument/2006/relationships/hyperlink" Target="http://www.ebi.ac.uk/" TargetMode="External"/><Relationship Id="rId8" Type="http://schemas.openxmlformats.org/officeDocument/2006/relationships/hyperlink" Target="http://www.sciencemag.org/" TargetMode="External"/><Relationship Id="rId9" Type="http://schemas.openxmlformats.org/officeDocument/2006/relationships/hyperlink" Target="http://www.ncbi.nlm.nih.gov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 "right"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semantic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8640" y="297000"/>
            <a:ext cx="82296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Univo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hould have the same meanings on every occasion of us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i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non-mammal’ or ‘non-membrane’ do not designate genuine class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bjec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unknown’ or ‘unclassified’ or ‘unlocalized’ do not designate biological natural kind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ngle Inheritance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 class in a classification hierarchy should have more than one is_a parent on the immediate higher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ntelligible Definition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eality Based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en building or maintaining an ontology, always think carefully at how classes relate to instances in reali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tinguish Classes and Instanc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at is necessarily true for instances is not necessarily true for cla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nnotation bottlenec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active lab can easily generate 10-100GB of data per month, and it is very difficult to manage data on this scale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 the best analytic schemes will be for naught if we cannot find our dat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the data is comple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Yet, the annotation effort required will be utterly wasted if it cannot be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Century Gothic"/>
              </a:rPr>
              <a:t>reliably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 computed up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mplies numerous “</a:t>
            </a:r>
            <a:r>
              <a:rPr b="0" lang="en-US" sz="4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” ontolog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r it implies a single complex o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anatom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lus all of the relations between these elemen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Practicalit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should be robust or the annotator’s time is was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earch won’t wait, data must be annotated at the rate at which it is gen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are much more difficult to get right than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80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tologies are easier to build and maint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can be built from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aims of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comprehensive shared vocabularies of terms describing aspects of molecular biolog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scribe the gene products held in each contributing model organism databa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cientific resource for access to the vocabularies, the annotations, and associated da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oftware resource to assist in curation of GO term assignments to biological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primary strength of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GO covers three domains of b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lecular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Compon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se are “precisely defined” axes of classif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breakdown of wor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0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ing the ontology: a computable description of the biological worl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cribing your gen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product—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lecular func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localiz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“right” amount of semantics depends on what you want to do with i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early key decis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vocabulary itself requires a serious and ongoing effor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efully define every concep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itially keep things as simple as possible and only use a minimally sufficient data represent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cus initially on molecular aspects that are shared between many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 databases: distributed and centralized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pport cross-database que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having a mutual understanding of the definition and meaning of any word used to describe a gene 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 database access to a common repository of anno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submitting a summary of gene products that have been annot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429000" y="1928880"/>
            <a:ext cx="2465280" cy="2036520"/>
            <a:chOff x="3429000" y="1928880"/>
            <a:chExt cx="2465280" cy="2036520"/>
          </a:xfrm>
        </p:grpSpPr>
        <p:sp>
          <p:nvSpPr>
            <p:cNvPr id="100" name=""/>
            <p:cNvSpPr/>
            <p:nvPr/>
          </p:nvSpPr>
          <p:spPr>
            <a:xfrm>
              <a:off x="342900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076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616800" y="374760"/>
            <a:ext cx="1982520" cy="1662120"/>
            <a:chOff x="6616800" y="374760"/>
            <a:chExt cx="1982520" cy="1662120"/>
          </a:xfrm>
        </p:grpSpPr>
        <p:sp>
          <p:nvSpPr>
            <p:cNvPr id="104" name=""/>
            <p:cNvSpPr/>
            <p:nvPr/>
          </p:nvSpPr>
          <p:spPr>
            <a:xfrm>
              <a:off x="6616800" y="374760"/>
              <a:ext cx="1982520" cy="16621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16800" y="634680"/>
              <a:ext cx="1982520" cy="261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4120" y="1090080"/>
              <a:ext cx="76932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T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22960" y="4768920"/>
            <a:ext cx="2276640" cy="1768320"/>
            <a:chOff x="3522960" y="4768920"/>
            <a:chExt cx="2276640" cy="1768320"/>
          </a:xfrm>
        </p:grpSpPr>
        <p:sp>
          <p:nvSpPr>
            <p:cNvPr id="108" name=""/>
            <p:cNvSpPr/>
            <p:nvPr/>
          </p:nvSpPr>
          <p:spPr>
            <a:xfrm>
              <a:off x="3643200" y="4768920"/>
              <a:ext cx="2036880" cy="17683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045760"/>
              <a:ext cx="2036880" cy="277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2960" y="5317560"/>
              <a:ext cx="2276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nonymou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4760" y="160200"/>
            <a:ext cx="2465280" cy="1874880"/>
            <a:chOff x="374760" y="160200"/>
            <a:chExt cx="2465280" cy="1874880"/>
          </a:xfrm>
        </p:grpSpPr>
        <p:sp>
          <p:nvSpPr>
            <p:cNvPr id="112" name=""/>
            <p:cNvSpPr/>
            <p:nvPr/>
          </p:nvSpPr>
          <p:spPr>
            <a:xfrm>
              <a:off x="374760" y="160200"/>
              <a:ext cx="2465280" cy="1874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1400" y="160200"/>
              <a:ext cx="408600" cy="1874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800" y="869040"/>
              <a:ext cx="199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    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83240" y="4124160"/>
            <a:ext cx="2195640" cy="2036880"/>
            <a:chOff x="6483240" y="4124160"/>
            <a:chExt cx="2195640" cy="2036880"/>
          </a:xfrm>
        </p:grpSpPr>
        <p:sp>
          <p:nvSpPr>
            <p:cNvPr id="116" name=""/>
            <p:cNvSpPr/>
            <p:nvPr/>
          </p:nvSpPr>
          <p:spPr>
            <a:xfrm>
              <a:off x="6483240" y="4124160"/>
              <a:ext cx="2195640" cy="2036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2680" y="4914720"/>
              <a:ext cx="125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TTPD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40160" y="803160"/>
            <a:ext cx="1660680" cy="9115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13160" y="4125960"/>
            <a:ext cx="696960" cy="534960"/>
            <a:chOff x="4313160" y="4125960"/>
            <a:chExt cx="696960" cy="534960"/>
          </a:xfrm>
        </p:grpSpPr>
        <p:sp>
          <p:nvSpPr>
            <p:cNvPr id="120" name=""/>
            <p:cNvSpPr/>
            <p:nvPr/>
          </p:nvSpPr>
          <p:spPr>
            <a:xfrm>
              <a:off x="4313160" y="4125960"/>
              <a:ext cx="696960" cy="53496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7400" y="4125960"/>
              <a:ext cx="3484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10800000">
            <a:off x="1098720" y="2303280"/>
            <a:ext cx="2062080" cy="965160"/>
          </a:xfrm>
          <a:prstGeom prst="pie">
            <a:avLst/>
          </a:prstGeom>
          <a:solidFill>
            <a:srgbClr val="25f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19800" y="2465280"/>
            <a:ext cx="776520" cy="12859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3375000"/>
            <a:ext cx="2089080" cy="739800"/>
          </a:xfrm>
          <a:prstGeom prst="pie">
            <a:avLst/>
          </a:prstGeom>
          <a:solidFill>
            <a:srgbClr val="1e42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88960" y="4286160"/>
            <a:ext cx="2062080" cy="1123920"/>
            <a:chOff x="588960" y="4286160"/>
            <a:chExt cx="2062080" cy="1123920"/>
          </a:xfrm>
        </p:grpSpPr>
        <p:sp>
          <p:nvSpPr>
            <p:cNvPr id="126" name=""/>
            <p:cNvSpPr/>
            <p:nvPr/>
          </p:nvSpPr>
          <p:spPr>
            <a:xfrm>
              <a:off x="588960" y="4286160"/>
              <a:ext cx="2062080" cy="11239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5440" y="4592520"/>
              <a:ext cx="13305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42960" y="1928880"/>
            <a:ext cx="2465280" cy="2036520"/>
            <a:chOff x="642960" y="1928880"/>
            <a:chExt cx="2465280" cy="2036520"/>
          </a:xfrm>
        </p:grpSpPr>
        <p:sp>
          <p:nvSpPr>
            <p:cNvPr id="129" name=""/>
            <p:cNvSpPr/>
            <p:nvPr/>
          </p:nvSpPr>
          <p:spPr>
            <a:xfrm>
              <a:off x="64296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96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3508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9920" y="588960"/>
            <a:ext cx="3643200" cy="91116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18400" y="2571840"/>
            <a:ext cx="776160" cy="15541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80080" y="214200"/>
            <a:ext cx="3052800" cy="2035440"/>
            <a:chOff x="5680080" y="214200"/>
            <a:chExt cx="3052800" cy="2035440"/>
          </a:xfrm>
        </p:grpSpPr>
        <p:sp>
          <p:nvSpPr>
            <p:cNvPr id="135" name=""/>
            <p:cNvSpPr/>
            <p:nvPr/>
          </p:nvSpPr>
          <p:spPr>
            <a:xfrm>
              <a:off x="5680080" y="214200"/>
              <a:ext cx="3052800" cy="2035440"/>
            </a:xfrm>
            <a:prstGeom prst="pie">
              <a:avLst/>
            </a:prstGeom>
            <a:solidFill>
              <a:srgbClr val="1e42e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7240" y="976680"/>
              <a:ext cx="24202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Many 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813280" y="4554360"/>
            <a:ext cx="2784600" cy="1820880"/>
            <a:chOff x="5813280" y="4554360"/>
            <a:chExt cx="2784600" cy="1820880"/>
          </a:xfrm>
        </p:grpSpPr>
        <p:sp>
          <p:nvSpPr>
            <p:cNvPr id="138" name=""/>
            <p:cNvSpPr/>
            <p:nvPr/>
          </p:nvSpPr>
          <p:spPr>
            <a:xfrm>
              <a:off x="5813280" y="4554360"/>
              <a:ext cx="2784600" cy="1820880"/>
            </a:xfrm>
            <a:prstGeom prst="pie">
              <a:avLst/>
            </a:prstGeom>
            <a:solidFill>
              <a:srgbClr val="25f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0760" y="5236200"/>
              <a:ext cx="260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base</a:t>
              </a: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71840" y="4687920"/>
            <a:ext cx="2089080" cy="1552680"/>
            <a:chOff x="2571840" y="4687920"/>
            <a:chExt cx="2089080" cy="1552680"/>
          </a:xfrm>
        </p:grpSpPr>
        <p:sp>
          <p:nvSpPr>
            <p:cNvPr id="141" name=""/>
            <p:cNvSpPr/>
            <p:nvPr/>
          </p:nvSpPr>
          <p:spPr>
            <a:xfrm>
              <a:off x="2571840" y="4687920"/>
              <a:ext cx="2089080" cy="155268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7400" y="5235480"/>
              <a:ext cx="13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miGO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83120" y="5224320"/>
            <a:ext cx="428760" cy="481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3520" y="0"/>
            <a:ext cx="7358040" cy="1347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 algn="ctr">
              <a:buNone/>
              <a:tabLst>
                <a:tab algn="l" pos="0"/>
                <a:tab algn="l" pos="157464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Database.org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51800" y="2142720"/>
            <a:ext cx="2303280" cy="34830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ctr">
            <a:normAutofit/>
          </a:bodyPr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ts   = 77,01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sits = 14,06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tes  =  6,63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verages per we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641988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1280" y="1225440"/>
          <a:ext cx="88869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225440"/>
                    <a:ext cx="88869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38280" y="1179360"/>
            <a:ext cx="58168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1"/>
              </a:rPr>
              <a:t>www.geneontology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7,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2"/>
              </a:rPr>
              <a:t>www.godatabase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3"/>
              </a:rPr>
              <a:t>obo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4"/>
              </a:rPr>
              <a:t>song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5"/>
              </a:rPr>
              <a:t>genome.ucsc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,6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6"/>
              </a:rPr>
              <a:t>www.ncbi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7"/>
              </a:rPr>
              <a:t>www.ebi.ac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8"/>
              </a:rPr>
              <a:t>sciencemag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9"/>
              </a:rPr>
              <a:t>www.ncbi.nlm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4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1960" y="374760"/>
            <a:ext cx="920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Number of links to a site: as reported by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2760" y="1447920"/>
            <a:ext cx="7460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7202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81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686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2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ATP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362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901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vir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777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immun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6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67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DNA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47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50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olysis and peptidolys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12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3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gulation of transcription, DNA-depend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04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487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cep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4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2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e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89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-protein coupled receptor protein signaling pathw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001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70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cription fac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81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11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electron 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663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09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alcium io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400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6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ular defens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125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64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eptide hormone process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044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815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metabolis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74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i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31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 adhe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825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19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structural molecule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493560"/>
            <a:ext cx="76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ost Common GOIDs accessed via Ami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25360" y="781200"/>
            <a:ext cx="7018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Arabidop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AIR, taxon:37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enorhabdit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WormBase, taxon:623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ndida albicans: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CGD, taxon:547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anio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ZFIN, taxon:795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ictyosteli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DictyBase, taxon:578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rosophil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FlyBase, taxon:722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MGI, taxon:100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ramene, taxon:39947 = </a:t>
            </a: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(japonica  cultivar-group)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Rat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RGD, taxon:1011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accharomyc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SGD, taxon:493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eishmania major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66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lasmodium falcipar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8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chizosaccharomyces pomb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48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Trypanosoma bruce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1854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Bacillus anthrac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1980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oxiella burneti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737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Geobacter sulfurreducen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isteria monocytogen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6566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ethylococcus capsula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seudomonas syring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328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hewanella oneiden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115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Vibrio choler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6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0280" y="128520"/>
            <a:ext cx="587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Taxon covered by the GO (som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NIH-funded experimental research that uses the GO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82280"/>
            <a:ext cx="4495680" cy="48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Aging (NI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Allergy and Infectious Diseases (NIAI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ancer Institute (NC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rug Abuse (NID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eafness and Other Communication Disorders (NIDC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ental &amp; Craniofacial Research (NIDC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iabetes and Digestive and Kidney Diseases (NIDD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Biomedical Imaging and Bioengineering (NIBIB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82280"/>
            <a:ext cx="449568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Environmental Health Sciences (NIEH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Eye Institute (NE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General Medical Sciences (NIGM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Child Health and Human Development (NICH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uman Genome Research Institute (NHGR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eart, Lung and Blood Institute (NHLB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Library of Medicine (NL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Neurological Disorders and Stroke (NIND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enter for Research Resources (NCR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Research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is based on inference from what is known, and therefore i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demands rigo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ther funded experimental projects that use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2524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Public Heath Serv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Walter Reed Army Medical Cente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nited States Department of Agricultu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Department of Defens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SAI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National Science Foundatio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are still challenges to me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Building upon (sharing) 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, axiomatic ontologies eliminates: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pelling mistakes o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oesinophi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vs. eosinophi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synonyms, names or naming conven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rmatazoon, sperm cell, spermatozoid, spe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defini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develops_fro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sodermal cell vs.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   </a:t>
            </a:r>
            <a:r>
              <a:rPr b="0" i="1" lang="en-US" sz="2000" spc="-1" strike="noStrike">
                <a:solidFill>
                  <a:srgbClr val="d1d1cb"/>
                </a:solidFill>
                <a:latin typeface="Century Gothic"/>
              </a:rPr>
              <a:t>Noth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velops_from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Inconsistent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48040" y="4170240"/>
            <a:ext cx="198144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8320" y="4170240"/>
            <a:ext cx="21114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2800440"/>
            <a:ext cx="4572000" cy="7887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ensu Arthropod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3840" y="2249640"/>
            <a:ext cx="159516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4400" y="5328000"/>
            <a:ext cx="181440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2600" y="3819600"/>
            <a:ext cx="181764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7" idx="2"/>
          </p:cNvCxnSpPr>
          <p:nvPr/>
        </p:nvCxnSpPr>
        <p:spPr>
          <a:xfrm flipV="1">
            <a:off x="7490880" y="2712240"/>
            <a:ext cx="1080" cy="110412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0"/>
            <a:endCxn id="169" idx="2"/>
          </p:cNvCxnSpPr>
          <p:nvPr/>
        </p:nvCxnSpPr>
        <p:spPr>
          <a:xfrm flipV="1">
            <a:off x="7490880" y="4282200"/>
            <a:ext cx="1080" cy="104220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0"/>
            <a:endCxn id="166" idx="2"/>
          </p:cNvCxnSpPr>
          <p:nvPr/>
        </p:nvCxnSpPr>
        <p:spPr>
          <a:xfrm flipH="1" flipV="1">
            <a:off x="3414240" y="3592080"/>
            <a:ext cx="142488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0"/>
            <a:endCxn id="166" idx="2"/>
          </p:cNvCxnSpPr>
          <p:nvPr/>
        </p:nvCxnSpPr>
        <p:spPr>
          <a:xfrm flipV="1">
            <a:off x="1924200" y="3592080"/>
            <a:ext cx="149112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nconsistent structur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054600" y="1736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87760" y="173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dcb9"/>
                </a:solidFill>
                <a:latin typeface="Gill San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Fin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mune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ation, migration, chemotaxis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rythrocyte differentiation is_a myeloid blood cell differenti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immune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myeloid blood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ours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proliferation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 prolifer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neuronal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300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Even a “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” ontology like the GO is difficult enough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160" y="1447920"/>
            <a:ext cx="84582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ethodology that enforces clear, coherent definitions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es quality assur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nt is not hard-coded into softwa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aning of relationships is defined, not infer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uarantees automatic reasoning across ontologies and across data at different granular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nsequences of inconsisten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rd to synchronize manu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consistent user-search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Meeting the goal: Drawing inferenc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8280" y="32004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664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936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514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0000" y="24382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2960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844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4880" y="4724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t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67000" y="40384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3880" y="6248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28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380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1760" y="210492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3680" y="212256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0920" y="35812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51055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29600" y="434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05920" y="61722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92120" y="609588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7200" y="31478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4672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9720" y="61196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20400" y="5638680"/>
            <a:ext cx="2817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4382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654160" y="3581280"/>
            <a:ext cx="2289960" cy="2638800"/>
            <a:chOff x="5654160" y="3581280"/>
            <a:chExt cx="2289960" cy="26388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248520" y="3581280"/>
              <a:ext cx="152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54160" y="5638680"/>
              <a:ext cx="22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Sima Misr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526560" y="2438280"/>
            <a:ext cx="2091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C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act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ithout rigor, we won’t—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know what we know, or where to find it, or what to infer from i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686b5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057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bl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302256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9760" y="472428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600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ig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3640" y="47242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0" y="1600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mantic Spectru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 the users defined words and phra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egoes the use of an expertly curated vocabulary or ontolog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st and distributed approach yields a vast amount of cont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people to maintain the ontology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annotators to interpret the material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4960" y="9360"/>
            <a:ext cx="807732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828800"/>
            <a:ext cx="31240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440" y="1828800"/>
            <a:ext cx="8764560" cy="685800"/>
            <a:chOff x="190440" y="1828800"/>
            <a:chExt cx="8764560" cy="6858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92240" y="1836720"/>
              <a:ext cx="8762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90440" y="1828800"/>
              <a:ext cx="876312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gging approach places the burden of interpretation and classification on every end us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all this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mor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inappropriate in the scientific dom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blem is 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about people communicating. It is about computers and HC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Build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y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and us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captures current scientific theory that seeks to explain all of the existing evidence and is used to draw inferences and make predic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s like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quires curators who are experts in both the science and log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application is the real bottlenec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t overall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les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57:33Z</dcterms:created>
  <dc:creator>Suzanna Lewis</dc:creator>
  <dc:description/>
  <dc:language>en-US</dc:language>
  <cp:lastModifiedBy>Suzanna Lewis</cp:lastModifiedBy>
  <dcterms:modified xsi:type="dcterms:W3CDTF">2005-10-26T12:28:51Z</dcterms:modified>
  <cp:revision>91</cp:revision>
  <dc:subject/>
  <dc:title>Ontology and Biomedicine: Goals of the National Center for Biomedical Ontology</dc:title>
</cp:coreProperties>
</file>